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5D7B-7DE2-4AD1-BCA6-F2A6FE7C1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8CF8-7851-4D1B-A194-3C57FEAD0FE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F09-77A5-4A87-9196-BC55891F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554-6CC9-40FA-A49E-A5CF967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B71-674C-4098-9DF7-5C229DF6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910-18F7-4148-8E05-649E4B29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5836-756D-4BBD-BA06-E0841E91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BFE-9F0E-44C0-A57E-59D3A6FC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CD6A-8306-4681-B06B-C5E9B81B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C391-97C2-4594-B9BD-ADDD252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2B34-DF2C-4AF5-ADB2-042BD9FC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7072-A04B-4AF4-8564-DDCFCB86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70F3-CF10-48B2-A04E-D698BA8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467-AB81-4D86-B600-E0D81E52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9AC5-B694-4E56-B208-E6B952D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FA0-3552-41CA-801B-216BC0D1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8121-C466-4DD4-B75C-4F5EED6B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AE39-0811-4AC4-9EB8-A949006C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41A3-6D30-499E-A311-99022055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FE9-CE00-4313-86BA-B07EE7F4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184-3EAA-41C2-BADB-AE954531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3D6-0DE6-4C26-83F6-691B8FC2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190-020A-4FE4-8F14-E8CE4EF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BCC-FA60-41DD-9BB0-54EB25E6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657-019E-4D1B-9D10-85A93D13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FA5-B82A-4FC0-B8D6-28FEB4BF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61C8-6502-4D24-94C1-3314948D6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C33-8B4F-412B-B521-9F9300D16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thérapie des infections neuro-méning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érence de consensus 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9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tualisatio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0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S. pneumonia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sensibilité diminué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a péni G en France (CN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48000" cy="276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3632040"/>
            <a:ext cx="6769080" cy="322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ées CN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356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1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244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éningite/bactérié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31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ial"/>
              </a:rPr>
              <a:t>Sensibilité aux beta lac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8000" y="1959120"/>
            <a:ext cx="8771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olution des résistances entre 2001 et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eurs de risque de résistance du pneumoc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hospitalisation réc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antibiothérapie (</a:t>
            </a: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-lactamine) dans les 6 mois qui précè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immuno-dé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Nourriss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res antibiotiques utilisables en cas de ré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ifamp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ipén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luoroquinolones anti pneumococciques (lévofloxacine, moxifloxac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nézolid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ssociation céfotaxime/ceftriaxone + vanco syner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n des années 80 en Espagne et au Royaume U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1997 e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NR e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30 %  pénicilline G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25 % amoxicilline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e diminution de la sensibilité pour le céfotax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té du méni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64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Données géné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ravité de l'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isqu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imiser le risque d'erreur dans le choix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icularité du compartiment neuro-méni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sage de la barrière hémato-encépha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'une bactérici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 supérieure à la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d'activité sur modèle expérimental avec des concentrations &gt; à 10 à 30 x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oujours sensible à l'amoxici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nergie avec l'association avec la gentam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n cas d'échec : efficacité in vivo du cotrimox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éléments de pharmacologie et de pharmacodyna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-lactam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pénétration méningée des </a:t>
            </a:r>
            <a:r>
              <a:rPr b="0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-lactamines faibles en l'absence d'inflammation des méni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emi-vie d'élimination supérieure à celles du compartiment plas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odèle anim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oncentration &gt; 2 à 3 x CMI = insuffisant 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rapport concentration sérique / LCR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ugmentation des posologies en cas de sensibilité diminu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otaxime : 3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triaxone : 1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Glycopep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auvaise pénétration méningée de la vancomy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difficulté d'atteindre des ratio concentration /CMB de 5 à 10, même à 40 à 6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vantage de la perfusion contin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eilleure pénétration dans le LCR, dose de charge à 15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n cas d'administration de corticoï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pénétration de la vanco suffisante en cas d</a:t>
            </a:r>
            <a:r>
              <a:rPr b="0" lang="ja-JP" sz="21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administration en perf continue (CID, 20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À utiliser en cas de pneumocoque résistant aux C3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luoroquinolones et linézo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ur place reste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nne concentration dans le L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usion méningée : 70 % pour le linéz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tude sur modèle animaux encourage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'étude clinique chez l'homm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/- bactériost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24000" y="2543040"/>
            <a:ext cx="84596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ans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186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Durée du 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neumocoque 10 jours si évolution favorable dès 48h et CMI C3G ≤ 0,5 mg/l, sinon 14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ocoque 4 jours si évolution favorable dès 48h, sinon 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stéria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treptocoque agalacti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4-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ite bactérienne non documentée d’évolution favorable : poursuite de l’antibiothérapie jusqu’au 14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èm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itements adjuvants : la corticothérap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'inflammation méningée et l'œdème céré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xaméthasone réduit les séquelles auditives dans les méningites à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hez l'enf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résultats dans la même population pour les méningites à pneumocoque si corticoïdes administrés avant ou au moment de la première administration d'antibi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ndance à avoir plus de guérison sans séquelles chez l'adulte traité par la déxamétha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et sur la mortalité 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sologie 0.4 à 0.6 mg/kg/jour répartis en 4 injections pendant 2 à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es défenses naturelles de l'organism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a diffusion des antibiotiques dans le LCR (surtou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lactamines et vancomycin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nette diminution depuis la vaccination chez le nourris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trepto agalactia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19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bcès céréb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c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eptocoques non groupabl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. anginosus, S. intermedius, S. constellat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aérobi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eptostreptococc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acteroid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cilles à Gram 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usion des antibiotiques dans le parenchyme céré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iamphén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/- fosfomy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u 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dico-chirur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à l'antibiogramme : céphalosporines de troisième génération; thiamphénicol ?, métronidazole, fosfomycine, rifamp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harmac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eurs influençant la pénétration des antibiotiques dans le L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augmentation perméabil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lécules de petite 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e liaison aux proté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'ionisation à pH phys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poph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diminuant la péné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idos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ntration élevée en protéines dans le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mpérature élevé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lai d'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plus rapide possible = urgence antibio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ximum : 3 heures après l’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ision thérapeutique prise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ent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spect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cyt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lon résultats bactériologiques à 48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tibiotique de premièr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définir selon les orientation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urp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2362320"/>
          <a:ext cx="35053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05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4"/>
          <p:cNvGrpSpPr/>
          <p:nvPr/>
        </p:nvGrpSpPr>
        <p:grpSpPr>
          <a:xfrm>
            <a:off x="5105520" y="1981080"/>
            <a:ext cx="2949480" cy="3856680"/>
            <a:chOff x="5105520" y="1981080"/>
            <a:chExt cx="2949480" cy="3856680"/>
          </a:xfrm>
        </p:grpSpPr>
        <p:graphicFrame>
          <p:nvGraphicFramePr>
            <p:cNvPr id="106" name="Object 5"/>
            <p:cNvGraphicFramePr/>
            <p:nvPr/>
          </p:nvGraphicFramePr>
          <p:xfrm>
            <a:off x="5105520" y="1981080"/>
            <a:ext cx="2949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81080"/>
                      <a:ext cx="2949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6"/>
            <p:cNvSpPr/>
            <p:nvPr/>
          </p:nvSpPr>
          <p:spPr>
            <a:xfrm>
              <a:off x="5138640" y="5012280"/>
              <a:ext cx="29062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Times New Roman"/>
                </a:rPr>
                <a:t>PURPURA EXTENS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Orientation thérapeutique selon le micro-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aux 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-lactam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MI &gt; ou = 0.1 mg/l)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 : 20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neumocoque de sensibilité diminuée à l'amoxicilline voire aux C3G injectables : r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18 % et 12.5 % I pour l'amoxi et le céfotax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as de résistance pour ces deux derniers antibiot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vanco toujours effic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02:17Z</dcterms:created>
  <dc:creator>yves hansmann</dc:creator>
  <dc:description/>
  <dc:language>en-US</dc:language>
  <cp:lastModifiedBy>invit</cp:lastModifiedBy>
  <dcterms:modified xsi:type="dcterms:W3CDTF">2019-03-06T14:49:28Z</dcterms:modified>
  <cp:revision>15</cp:revision>
  <dc:subject/>
  <dc:title>Antibiothérapie des infections neuro-méningées</dc:title>
</cp:coreProperties>
</file>